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F42-6B66-4B9F-8A77-57D0F3D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6A-DD10-44BA-88EC-AD09764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E96-05D8-429A-ACEE-7D6608FD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2C1-EBDE-40A7-B9DC-BB61DB50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B82-523C-42E3-9629-8E08C28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ADE-36D3-4518-B432-A4520C1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D1B-E95E-4F7B-97F6-5301E49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BC4-D755-4C9B-B888-DF786681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C6D-ACF0-468E-907A-AB88060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ADD-6A5F-4E07-A676-4EEF29F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ED7-5A8B-4714-AB12-A854340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58B-077E-4721-9754-50C870D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6A0A-FDBE-4292-A8DB-48907220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</a:rPr>
              <a:t>By: Jennifer Zou, Jason Xiao, and Magdalena Wierzbow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</a:rPr>
              <a:t>S.S Per.1 / Mr.Griffith / Rm.13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</a:rPr>
              <a:t>Free Market Economy /Free Enterpris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People can open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Chose their own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Workers can lose their jobs when a business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</a:rPr>
              <a:t>Gov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Prices have r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no longer sets prices for foods or oth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Federal republic/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</a:rPr>
              <a:t>Governmen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Power is divided between national and state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A President leads this 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</a:rPr>
              <a:t>Other 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About 75% of Russia’s people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99cc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</a:rPr>
              <a:t>Facts continu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Pollution is made by dirty smoke and dumped po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Air pollution  causes many people to suffer from lung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The life expectancy is shorter because of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90% of the people speak Russian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Many posperous people live in 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 </cp:lastModifiedBy>
  <dcterms:modified xsi:type="dcterms:W3CDTF">2010-12-20T14:01:52Z</dcterms:modified>
  <cp:revision>9</cp:revision>
  <dc:subject/>
  <dc:title>Present Day Russia</dc:title>
</cp:coreProperties>
</file>